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F5EA-CE25-4F7E-87DB-65DAA8EDB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AF73-C940-441D-BFCF-14385A84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20AB-B05A-4C58-9B22-CA7136D37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B1F9-68BA-437D-A147-F889D9AE6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658B-3B30-443B-AE21-D6DD38168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012D-4E6A-47BB-BD1E-FB7E09DA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12AF-BA33-4CA0-8FC3-6F4328AB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3584-76B7-4B86-91CF-D9852033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52D0-8C03-48D6-9903-9197ACF1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9B50-B495-4C9B-BE68-50824CFA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481B-B437-40C5-AB62-4DBF6E47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56D4-97FB-4D94-9C79-1772116E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6EFE-2B9B-4303-955A-F3893024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C5C9-C296-41AC-B124-6636451C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6BD8-743F-4648-9138-3B911DD6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76A4-5B22-4D53-9F07-A5F83A756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9C0C-BC4D-48F9-A225-F12862081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C518-0630-416C-83EE-CF259881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A1C5-D869-4407-8BF2-4175F3C1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F3FC-66BC-4531-945D-CB09B207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BD8C-500C-44FD-828F-559E9A71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0C9B-1BB1-4A00-AEB7-00111354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4851-63B6-4543-805F-E5AD9178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4170-5FBF-43AB-92FB-8B0E8891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6A4E-1E43-4D5F-B801-C240A74DD4C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F623-7934-4B7C-AEF8-C219048E3F5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LESSON 4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Bodoni MT Black"/>
              </a:rPr>
              <a:t>NEW PATCHES ON OLD GARMENT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tthew 9:16;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Mark 2:21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,; Luke 5:3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Good News of the 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Conflict of Old and Ne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ame as the previous parable - Jesus is in Galilee eating in Matthew’s house with publicans and sinn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Question of fastin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question came from John’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isciples – Matthew 9:14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also came from the Pharisees –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rk 2:18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hristianity is not a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patch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on Judaism; It is not an abridgement of, addition to, or syncretism with the Law of Mo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is a totally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new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garment, suite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o new privileges and blessin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 To try and mix the two woul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estroy the purpose of bo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udaism – the OLD garment is worn ou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eremiah declared i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OLD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, aging,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nd nigh unto passing away –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eremiah 31:31-34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tthew 5:17-19 is a gros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isunderstanding of Jesus’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ntent in relation to the La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f. Verses 17-18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His explanation is in v. 17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law with all it types, shadows and blue-prints – once fulfilled, totally loses its significance and purpo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“UNTILL” –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until (always signifie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hange thereafter). Limits the Law’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en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“UNTIL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– ‘to the time that…’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alatians 3:19 – the law was adde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until the seed comes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Law was a 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‘tutor unto Christ’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but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now that Christ has come, 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“we are no 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longer under a tutor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vs. 24-25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hristianity inaugurates a totally new economy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a remodeling of the old syst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t is new in authority, government,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erritory, fellowship, destiny, purpose,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understanding and scop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rophets of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Old Garment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promised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eople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Garment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and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Song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(Psalm 40:3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Promised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Name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(Isa. 62:2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Promised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Covenant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(Jer. 31:31-34)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. Promis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Things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(Isa. 40:9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4. Promis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Heavens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&amp;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Earth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(Isa.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65:22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5. Promis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Heart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&amp;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Spirit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(Ezek.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36:36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Even the honored Passover must find </a:t>
            </a:r>
            <a:r>
              <a:rPr b="0" i="1" lang="en-US" sz="2300" spc="-1" strike="noStrike" u="sng">
                <a:solidFill>
                  <a:srgbClr val="ffffff"/>
                </a:solidFill>
                <a:uFillTx/>
                <a:latin typeface="Benguiat Bk BT"/>
              </a:rPr>
              <a:t>fulfillment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in Christ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esus desired to eat the Passover with the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postles – the last time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it would have Jewish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significance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Even then it was prophetic of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300" spc="-1" strike="noStrike" u="sng">
                <a:solidFill>
                  <a:srgbClr val="ffffff"/>
                </a:solidFill>
                <a:uFillTx/>
                <a:latin typeface="Benguiat Bk BT"/>
              </a:rPr>
              <a:t>New Meaning!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1. Luke 22:16 – 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“not eat it…”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2. Luke 22:18 – 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“not drink… until kingdom 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    comes.”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3. Matthew 26:19 – 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“not drink… until I drink it 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    new…”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4. 1 Corinthians 5:7 – 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“our Passover… 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   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    sacrificed… even Christ.”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Nothing in the Law is incumbent on the church – Eph. 2:14-16; Col. 2:13-17; Gal. 3:15-19, 21-31; 5:2-6. 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18:00:03Z</dcterms:created>
  <dc:creator>Jerry Cantrell </dc:creator>
  <dc:description/>
  <dc:language>en-US</dc:language>
  <cp:lastModifiedBy>Jerry Cantrell </cp:lastModifiedBy>
  <dcterms:modified xsi:type="dcterms:W3CDTF">2006-02-13T10:42:06Z</dcterms:modified>
  <cp:revision>11</cp:revision>
  <dc:subject/>
  <dc:title>LESSON 4 NEW PATCHES ON OLD GARMENTS</dc:title>
</cp:coreProperties>
</file>